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6.jpeg" ContentType="image/jpeg"/>
  <Override PartName="/ppt/media/CLICKER.WAV" ContentType="audio/x-wav"/>
  <Override PartName="/ppt/media/image2.wmf" ContentType="image/x-wmf"/>
  <Override PartName="/ppt/media/image1.wmf" ContentType="image/x-wmf"/>
  <Override PartName="/ppt/media/wat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FEA-EE74-41BA-9147-4B85B118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32B-54BC-4924-8D23-CA50640B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B4C-0F1F-49DD-94E5-D7B8ABE6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B50-F899-4497-ACD7-4E9052B0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1A14-150C-4D29-A389-9F7E8D4A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A22A-BC1F-48EE-819C-D41D32F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B56-B307-4A36-B048-40EFD28F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4877-D9DC-4E23-80D6-60DEB2F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149-BD8A-45D8-BE7C-12B8DD6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A3B8-766A-4ACA-894E-28E85669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25F4-01F3-4951-9DF3-8E8D5EE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4F7-7686-4D91-8582-BA101A3A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8D0-3A2D-44B7-821D-E4A5138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6F2D-7DD3-4192-AB2E-F6AA8AA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18AF-EDE5-4383-B458-4684309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73B9-B4ED-4929-9056-752FDC82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D7D9-ECA1-4023-967C-55489C10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43A-431C-445C-868D-4CB733E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CD5-8F44-4AAC-9FC2-9AC10AA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EB5-3944-446D-8D1F-6A25372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34F-F697-4BB7-BB0E-774E123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F23-ADCA-4C13-AF2A-33A222D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0F5-841E-4911-9A6A-C2C2AC6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0FC-141D-4A69-83D2-E12152D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DAA-37B2-41B3-AAE6-8972378A8A1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99DE-3FC1-44D2-86FD-6DC46FCDC85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at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domiatwindow.net/images/articles/aF0TA2t55cFt.bmp&amp;imgrefurl=http://domiatwindow.net/articles.php%3Fid%3D241&amp;usg=__kJxymtL7r9Jk1FG_UB3kEIJ6qRo=&amp;h=420&amp;w=337&amp;sz=416&amp;hl=ar&amp;start=8&amp;tbnid=eIicBymXKMLk2M:&amp;tbnh=125&amp;tbnw=100&amp;prev=/images%3Fq%3D%25D9%2581%25D8%25B5%25D9%2584%2B%25D8%25A7%25D9%2584%25D8%25B5%25D9%258A%25D9%2581%26gbv%3D2%26hl%3Dar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eg/imgres?imgurl=http://www.alawael-magazine.com/site_image/Summer%2520Session%2520picture.bmp&amp;imgrefurl=http://www.alawael-magazine.com/page_view.php%3Fid%3D192&amp;usg=__RWuxhxgOKnvKgaTRT9hip1fFLUs=&amp;h=358&amp;w=360&amp;sz=127&amp;hl=ar&amp;start=1&amp;tbnid=3ddLrsnl6861UM:&amp;tbnh=120&amp;tbnw=121&amp;prev=/images%3Fq%3D%25D9%2581%25D8%25B5%25D9%2584%2B%25D8%25A7%25D9%2584%25D8%25B5%25D9%258A%25D9%2581%26gbv%3D2%26hl%3Dar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members.abunawaf.com/balot/GRD3/40.jpg&amp;imgrefurl=http://www.abunawaf.com/post-5517.html&amp;usg=__IEC5cyIqzba2_j6ruLPQLQdPuow=&amp;h=600&amp;w=800&amp;sz=51&amp;hl=ar&amp;start=3&amp;um=1&amp;tbnid=mbTVnlx7ISEwcM:&amp;tbnh=107&amp;tbnw=143&amp;prev=/images%3Fq%3D%25D9%2581%25D8%25B5%25D9%2584%2B%25D8%25A7%25D9%2584%25D8%25B4%25D8%25AA%25D8%25A7%25D8%25A1%26hl%3Dar%26sa%3DN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eg/imgres?imgurl=http://www.shlahi.com/vb/uploaded/490_1203681119.gif&amp;imgrefurl=http://mfhom.com/vb/t24894.html&amp;usg=__KI9OV0Bl5FNFjIZnIMtTmpKtRqY=&amp;h=640&amp;w=480&amp;sz=783&amp;hl=ar&amp;start=12&amp;um=1&amp;tbnid=NAhkNa9GbVGTKM:&amp;tbnh=137&amp;tbnw=103&amp;prev=/images%3Fq%3D%25D8%25A3%25D9%2585%25D8%25B7%25D8%25A7%25D8%25B1%26hl%3Dar%26um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348000" y="115920"/>
            <a:ext cx="2997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779560"/>
            <a:ext cx="813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cc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Hesham Bold"/>
              </a:rPr>
              <a:t>الفصول الأربعة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cc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Hesham Bold"/>
              <a:ea typeface="Hesham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98100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ا الفصول الأربعة 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1337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يتغير الطقس خلال السنة فى كثير من الأماك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4753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0840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80840" y="76500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فصل الربي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17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: الصيف هو فصل من فصول السنة الأربعة وهو أشد الفصول حرارة, يبدأ من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ونيو وينتهي في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سبتمبر في البلاد الواقعة شمال خط الأستواء, ويبدأ في ديسمبر وينتهي في مارس في البلاد الواقعة جنوب خط الأستوا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5800" y="105264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صل الصيَّف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013360"/>
            <a:ext cx="223200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22287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َكونُ الطَّقْسُ مُشْمِسًا لِساعاتٍ أَقَلَّ مِنَ الصَّيْفِ، وَيُصْبِحُ الطَّقْسُ أَقَلَّ حَرَارَة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9120" y="1000080"/>
            <a:ext cx="508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ْخَريف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331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044520"/>
            <a:ext cx="677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كْثَرُ الْفُصولِ بُرودَةً. يَكونُ الطَّقْسُ فِيْهِ مُشْمِسًا لِساعاتٍ قَليلَةٍ، وَتَتَسَاقَطُ فِيْه الأَمْطارُ، وَأَحْيانًا البَرَدُ والثُّلوجُ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8120" y="47628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شِّتاء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62864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84280"/>
            <a:ext cx="165744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28:46Z</dcterms:modified>
  <cp:revision>37</cp:revision>
  <dc:subject/>
  <dc:title>PowerPoint Presentation</dc:title>
</cp:coreProperties>
</file>